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2C6-B83B-450F-ADC1-935239BB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9C8D-66C7-4670-8203-30FE6957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751-F010-4158-94B7-66326B75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5D5-798B-4D85-978E-97C9CD68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0DA3-9363-4A5A-BA88-1E905801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CD67-35F3-4B0C-838D-9DCB5687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BA7F-8140-446C-9203-F0421653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2F07-D1DF-4AFF-B810-01B5686D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D52A-B97D-4ACD-BF6F-B923C618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5325-9392-4B6D-8AE1-D1DB2200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A2BA-79F2-4D03-BF91-E25945E1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6C95-0346-48AC-9EE7-F4E6600F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67CB-4BF9-4E92-B145-3CC54C1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C680-01C3-4BB7-888F-B8008A25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63E4-CA80-495A-9CA8-E5567EE2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A6BF-F15B-42CE-8455-D8DFAF06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FC75-319E-4E3D-A284-199146B9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47A-8A8D-4B02-8B77-E283ABA6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A11-7134-4B48-9855-4F467C21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983-291F-4091-BF96-A32C48E1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DD2-D8A1-492F-A06D-D5056CB3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63F0-647A-48CE-8246-AF555DF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A25-FFD5-4A4C-A71B-4954E7FD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ACE-F815-43AB-8977-34BFAD5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1723-980F-4BD7-81FA-A66C8A38634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3B43-F886-4C44-8C0D-A78B4E0EC53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ol.careerbuilder.com/jobs/keyword/lead+software+engineer/?siteid=cbaol95lst" TargetMode="External"/><Relationship Id="rId2" Type="http://schemas.openxmlformats.org/officeDocument/2006/relationships/hyperlink" Target="http://aol.careerbuilder.com/jobs/keyword/IT+Manager/?siteid=cbaol95lst" TargetMode="External"/><Relationship Id="rId3" Type="http://schemas.openxmlformats.org/officeDocument/2006/relationships/hyperlink" Target="http://aol.careerbuilder.com/jobs/keyword/product+marketing+manager/?siteid=cbaol95lst" TargetMode="External"/><Relationship Id="rId4" Type="http://schemas.openxmlformats.org/officeDocument/2006/relationships/hyperlink" Target="http://aol.careerbuilder.com/jobs/keyword/tax+manager/?siteid=cbaol95lst" TargetMode="External"/><Relationship Id="rId5" Type="http://schemas.openxmlformats.org/officeDocument/2006/relationships/hyperlink" Target="http://aol.careerbuilder.com/jobs/keyword/pharmacist/?siteid=cbaol95lst" TargetMode="External"/><Relationship Id="rId6" Type="http://schemas.openxmlformats.org/officeDocument/2006/relationships/hyperlink" Target="http://aol.careerbuilder.com/jobs/keyword/engineer+manager/?siteid=cbaol95lst" TargetMode="External"/><Relationship Id="rId7" Type="http://schemas.openxmlformats.org/officeDocument/2006/relationships/hyperlink" Target="http://aol.careerbuilder.com/jobs/keyword/sales+director/?siteid=cbaol95lst" TargetMode="External"/><Relationship Id="rId8" Type="http://schemas.openxmlformats.org/officeDocument/2006/relationships/hyperlink" Target="http://aol.careerbuilder.com/jobs/keyword/dentist/?siteid=cbaol95lst" TargetMode="External"/><Relationship Id="rId9" Type="http://schemas.openxmlformats.org/officeDocument/2006/relationships/hyperlink" Target="http://aol.careerbuilder.com/jobs/keyword/physician/?siteid=cbaol95lst" TargetMode="External"/><Relationship Id="rId10" Type="http://schemas.openxmlformats.org/officeDocument/2006/relationships/hyperlink" Target="http://aol.careerbuilder.com/jobs/keyword/psychiatrist/?siteid=cbaol95lst" TargetMode="Externa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areerinfonet.org/occ_rep.asp?next=occ_rep&amp;level=overall&amp;optstatus=110000000&amp;id=&amp;nodeid=2&amp;soccode=291061&amp;stfips=00&amp;jobfam=29" TargetMode="External"/><Relationship Id="rId2" Type="http://schemas.openxmlformats.org/officeDocument/2006/relationships/hyperlink" Target="http://www.careerinfonet.org/occ_rep.asp?next=occ_rep&amp;level=overall&amp;optstatus=110000000&amp;id=&amp;nodeid=2&amp;soccode=291064&amp;stfips=00&amp;jobfam=29" TargetMode="External"/><Relationship Id="rId3" Type="http://schemas.openxmlformats.org/officeDocument/2006/relationships/hyperlink" Target="http://www.careerinfonet.org/occ_rep.asp?next=occ_rep&amp;level=overall&amp;optstatus=110000000&amp;id=&amp;nodeid=2&amp;soccode=291022&amp;stfips=00&amp;jobfam=29" TargetMode="External"/><Relationship Id="rId4" Type="http://schemas.openxmlformats.org/officeDocument/2006/relationships/hyperlink" Target="http://www.careerinfonet.org/occ_rep.asp?next=occ_rep&amp;level=overall&amp;optstatus=110000000&amp;id=&amp;nodeid=2&amp;soccode=291023&amp;stfips=00&amp;jobfam=29" TargetMode="External"/><Relationship Id="rId5" Type="http://schemas.openxmlformats.org/officeDocument/2006/relationships/hyperlink" Target="http://www.careerinfonet.org/occ_rep.asp?next=occ_rep&amp;level=overall&amp;optstatus=110000000&amp;id=&amp;nodeid=2&amp;soccode=291069&amp;stfips=00&amp;jobfam=29" TargetMode="External"/><Relationship Id="rId6" Type="http://schemas.openxmlformats.org/officeDocument/2006/relationships/hyperlink" Target="http://www.careerinfonet.org/occ_rep.asp?next=occ_rep&amp;level=overall&amp;optstatus=110000000&amp;id=&amp;nodeid=2&amp;soccode=291067&amp;stfips=00&amp;jobfam=29" TargetMode="External"/><Relationship Id="rId7" Type="http://schemas.openxmlformats.org/officeDocument/2006/relationships/hyperlink" Target="http://www.careerinfonet.org/occ_rep.asp?next=occ_rep&amp;level=overall&amp;optstatus=110000000&amp;id=&amp;nodeid=2&amp;soccode=291063&amp;stfips=00&amp;jobfam=29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k yourself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materials we just used wer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tende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to be used in science instruc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gn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fr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895480" y="617220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rac4la.files.wordpress.com/2013/01/bp_oil_spill_bird.png"/>
          <p:cNvPicPr/>
          <p:nvPr/>
        </p:nvPicPr>
        <p:blipFill>
          <a:blip r:embed="rId2"/>
          <a:stretch/>
        </p:blipFill>
        <p:spPr>
          <a:xfrm>
            <a:off x="1066680" y="990720"/>
            <a:ext cx="764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beauty in everything, but       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onfuci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urriculum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in everything, but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90720" y="42670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iculum materials embody the intentions of the developers imperfect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complex and comprehensive materials may yield a richer array of possible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may be possible to use rather limited and standard materials and to create exciting and motivating experien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is possible to use materials that were not intended for teaching in creative ways to support curriculu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Interpreta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ers do not simply implement curriculum, they also interpre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“reading” of curriculum potential depends not only on the inherent qualities of the materials, but also, to a large extent, on the teachers’ interpretive abilities and on their professional imagin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xplicit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n as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ormal 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offici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although those terms do have slightly different implications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dden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 as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form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is a sense in the idea of the “hidden curriculum” that students are learning things that are not stated, but that they are held accountable for in informal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sed on what is considered “normal”, which brings in the concept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hegemo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gemo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ituation in which one state or way of being/knowing predomina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the hegemonic condition is an implicit part of a culture, going unstated and unrecognized because it is simply considered norm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gemony is usually promoted by the implicit messages presented in a 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Picture 2" descr="http://seedmagazine.com/stateofscience/img/stateofscience/draw-a-scientist2.jpg"/>
          <p:cNvPicPr/>
          <p:nvPr/>
        </p:nvPicPr>
        <p:blipFill>
          <a:blip r:embed="rId1"/>
          <a:stretch/>
        </p:blipFill>
        <p:spPr>
          <a:xfrm>
            <a:off x="1962000" y="2149560"/>
            <a:ext cx="59817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ull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left out, either intentionally or unintentionally, from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ons about what are included or not in a curriculum—what becomes the null curriculum—are always political, even when (especially when) they are unintention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6" descr="http://www.siteselection.com/ssinsider/special/images/sr110113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 we include it?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ademy awa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ocus events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rg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oduction – 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BP oil spil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ealt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ways social power is gained, given, taken, lost, denied, and 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nce “knowledge is power”, anything that contributes to or detracts from opportunities to learn is inherently poli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curriculum construction affects opportunities to learn, it is a political a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n In-Demand Jobs at 6 Figur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0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Lead Software Engine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9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IT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8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 Market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Tax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harmac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Engineer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Sales Directo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Dent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Physician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Psychiatr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ttp://jobs.aol.com/articles/2013/02/06/six-figure-jobs-in-demand/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ghest Paying Job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2170080"/>
          <a:ext cx="7543800" cy="384984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1371600"/>
                <a:gridCol w="2057400"/>
              </a:tblGrid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1"/>
                        </a:rPr>
                        <a:t>Anesthesi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Obstetricians and Gynec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Oral and Maxillofacial 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4"/>
                        </a:rPr>
                        <a:t>Orthodont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5"/>
                        </a:rPr>
                        <a:t>Physicians and Surgeons, All Oth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6"/>
                        </a:rPr>
                        <a:t>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7"/>
                        </a:rPr>
                        <a:t>Internists, Genera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8.06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3,2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sychiatr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1.9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70,4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amily and General Practition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9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7,0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hief Executiv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5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6,900 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1326240" y="62467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.S. Department of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iculum interpretation gives insight into different levels of the curriculum—the explicit, hidden, and null curricu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ce different levels of the curriculum are recognized, the teacher can set out to implement, enhance, or augment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washingtonpost.com/wp-srv/special/local/inauguration-2013/obama-inauguration-then-and-now/img/BEFORES-jefferson-memorial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 ELED, is it OK to discuss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aut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environm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un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62320" y="502920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www.bloomberg.com/image/iOqzHPjCvpQM.jpg"/>
          <p:cNvPicPr/>
          <p:nvPr/>
        </p:nvPicPr>
        <p:blipFill>
          <a:blip r:embed="rId2"/>
          <a:stretch/>
        </p:blipFill>
        <p:spPr>
          <a:xfrm>
            <a:off x="1935000" y="2154240"/>
            <a:ext cx="5791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energyboom.com/sites/default/files/imagecache/nodeFull/bp-oil-spill_3.jpg"/>
          <p:cNvPicPr/>
          <p:nvPr/>
        </p:nvPicPr>
        <p:blipFill>
          <a:blip r:embed="rId2"/>
          <a:stretch/>
        </p:blipFill>
        <p:spPr>
          <a:xfrm>
            <a:off x="1036800" y="1143000"/>
            <a:ext cx="7650000" cy="510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036800" y="5867280"/>
            <a:ext cx="7650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5" descr="https://encrypted-tbn2.gstatic.com/images?q=tbn:ANd9GcTInN2_aGDO-lZDmK3zHhDTagFMHjo6E58fja2S4WHt9OQFTkXf"/>
          <p:cNvPicPr/>
          <p:nvPr/>
        </p:nvPicPr>
        <p:blipFill>
          <a:blip r:embed="rId1"/>
          <a:stretch/>
        </p:blipFill>
        <p:spPr>
          <a:xfrm>
            <a:off x="1143000" y="1066680"/>
            <a:ext cx="755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Picture 5" descr="http://l1.yimg.com/bt/api/res/1.2/sGyxpCN7ObwUJEyOqHN99Q--/YXBwaWQ9eW5ld3M7Y2g9MjQ0Njtjcj0xO2N3PTMyNjQ7ZHg9MDtkeT0wO2ZpPXVsY3JvcDtoPTQ3MztxPTg1O3c9NjMw/http:/l.yimg.com/os/152/2012/04/20/98606587-jpg_15541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229520" cy="541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s://encrypted-tbn2.gstatic.com/images?q=tbn:ANd9GcTsGnY8EKGywkBuh322LShYeHAZZSwAnVdLomqCopjaQsoqzrI1"/>
          <p:cNvPicPr/>
          <p:nvPr/>
        </p:nvPicPr>
        <p:blipFill>
          <a:blip r:embed="rId2"/>
          <a:stretch/>
        </p:blipFill>
        <p:spPr>
          <a:xfrm>
            <a:off x="1066680" y="1447920"/>
            <a:ext cx="764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6:50:26Z</dcterms:created>
  <dc:creator>its</dc:creator>
  <dc:description/>
  <dc:language>en-US</dc:language>
  <cp:lastModifiedBy>Administrator</cp:lastModifiedBy>
  <dcterms:modified xsi:type="dcterms:W3CDTF">2013-02-25T18:47:11Z</dcterms:modified>
  <cp:revision>177</cp:revision>
  <dc:subject/>
  <dc:title>Curriculum Potential </dc:title>
</cp:coreProperties>
</file>